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725C-8448-4366-BB40-631C80769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74AE-C688-463A-8F81-29378907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2EDC-C29A-471D-82FB-22FF99689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E0EC-1D6E-46DE-810C-5605ADCE2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94E2-141E-4CDA-B0C9-D8F8E55A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F48E-4291-40B3-89C2-1A61D5A4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F331-B9D8-4FA1-9506-EA7C53C7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5A75-453A-4380-9E7B-5072BC51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F2E4-91BF-4E58-AE7E-E4D2C292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C425-D729-4A0C-8F7D-5886F8B1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8D60-E86C-4134-B1E5-6565177A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6E11-34AC-4A23-9CE5-2A2AEB0C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B695-CBC0-4958-8E33-B42DF5F44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advisplp.wikispaces.com/Haverford+School" TargetMode="External"/><Relationship Id="rId2" Type="http://schemas.openxmlformats.org/officeDocument/2006/relationships/hyperlink" Target="http://advisplp.wikispaces.com/Haverford+School" TargetMode="External"/><Relationship Id="rId3" Type="http://schemas.openxmlformats.org/officeDocument/2006/relationships/hyperlink" Target="http://advisplp.wikispaces.com/Haverford+School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averford Schoo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9 PLP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14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don’t think your way into a new kind of living; you live your way into a new kind of think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ker Pal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porate 2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ntury literacies into curricul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Project-base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pt that we are all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at each of us learns differ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Faculty and Staff on the nature of a “Learning Communit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a learning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, that in meeting these goals, we are changing the culture of the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LP team member will mentor 3 Haverford teachers, Fall 2009, with assistance of PLP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3 teachers in turn will mentor 3  Haverford teachers, Spring 2010, with assistance of PLP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culture of the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 teaching and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/20 rule – 80% go on to men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iculum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g 2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ntury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ng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bric for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ar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DVIS PLP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iki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not – our project is not here  (our reflections on the process are there; the project will be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  Note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 to Admin Counc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iculum Map – PLP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rford Ning (already u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791320" y="40384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Google Notebook - 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Take Aways from P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possible to create an online pre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s, who are more experienced and knowledgeable, want to share their knowledge with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ility is a good thing; it’s the basis for a “learning posture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a personal learning network is f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er stop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ar-long embedded PD is transform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76720" y="3048120"/>
            <a:ext cx="2666880" cy="243828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g Picture Overview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P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2438280"/>
            <a:ext cx="1600200" cy="129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57800" y="4648320"/>
            <a:ext cx="160020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4572000"/>
            <a:ext cx="160020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ury Tools and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580920" y="3505320"/>
            <a:ext cx="76212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76920" y="3505320"/>
            <a:ext cx="761760" cy="1447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796920" y="54864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ing our teachers to become lear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ering our students meaningful learning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ing an understanding that learning is a shared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aging all members of the community to become life-long lear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ing transparency and an openness in the process that creates a safe environment for risk-taking, questioning, and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 and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facility with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tools to teach 2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ntury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ult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lear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pa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to unle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-based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ve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 assess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arency of process to achieve alignment with all constituencies (Administrative team, Trustees, Parents, Teachers, Staff, Stud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al sh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Community of lear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PLN with each particip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e with other schools (Shipley?) to “build out” the learning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entury Tools and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tech training with emphasis on applications of tools to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that students are learning to use the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ntury-izing the Curr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 faculty to introduce tools and skills in their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curriculum 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mapping P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143000" y="152280"/>
          <a:ext cx="7056360" cy="674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52280"/>
                    <a:ext cx="7056360" cy="67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676520" y="228600"/>
          <a:ext cx="5905440" cy="643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8600"/>
                    <a:ext cx="5905440" cy="643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85720" y="961920"/>
          <a:ext cx="7974000" cy="493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720" y="961920"/>
                    <a:ext cx="7974000" cy="49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9:05:48Z</dcterms:created>
  <dc:creator>Megan Connolly</dc:creator>
  <dc:description/>
  <dc:language>en-US</dc:language>
  <cp:lastModifiedBy>Megan Connolly</cp:lastModifiedBy>
  <dcterms:modified xsi:type="dcterms:W3CDTF">2009-03-10T14:01:27Z</dcterms:modified>
  <cp:revision>6</cp:revision>
  <dc:subject/>
  <dc:title>The Haverford School 2009 PLP Project</dc:title>
</cp:coreProperties>
</file>